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AA3-F6B2-4EFE-82EC-6304115A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805-40A1-4E55-9996-9EB1BC5F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CDD07-2867-44A1-A959-45C5F7A6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8866E-F7FB-4983-9D73-9697ED13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32551-DA8D-4E4D-836A-70BEDA14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71D16-C506-48DC-8C2D-68152045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51ABA-423F-4E5D-A743-C3BD29B2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8AF2B-DAD3-4678-9FA6-77446394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60B97-3124-4EA1-B664-812762A6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8E71E-4B9C-46DA-8002-8996E3B8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CFFC2-CA05-4F1B-B017-6D06A828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D07FD-3660-4AB6-8D70-B1671330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DAC-CF7A-4634-BE36-BA60EABC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2D6A8-0EC6-44B9-A2CA-54C034C0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C3C82-BA82-4C3A-975D-18F70E25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234F4-293E-45D8-8B77-26B5263F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F123F-C6DD-478A-90B1-C35F4C21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00F21-8E26-4783-BE8A-2929D859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3EE79-EB56-4A49-8B07-49FD4E04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E315C-81C7-4DB4-8F87-D1BE35AD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A0291-8E74-4612-8797-17C41738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CAB59-1FA7-4A0F-8D6B-7DA70BF3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C9179-DC87-4383-A0E1-8AAE54DE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A20D-F69F-4506-83F5-FD070A08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C4060-7494-42CD-B3DC-C4321559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12380-7B02-429C-B3F7-D023E5B7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17FBB-9A2D-4CDC-8B7D-3C390851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93CA4-0CC7-47D2-B34F-47ABBE3B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99333-D1A5-474C-A72E-7A1BCE42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FF37F-A500-44A9-B91B-A20018EF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BC447-52D3-4754-A7C9-81AE0AB0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C281C-7283-4289-8CFF-05C16D18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FDC5D-12E5-44ED-B31C-5BBB2C4F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738C6-59BB-4F6D-85F4-A2577AF0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9A09-2C71-4EFC-BDC6-BC446FDA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61F21-3A29-4BF5-9D6C-6503E397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32BA3-C26B-4A35-9E2F-C94A3B8B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D7436-912E-44E2-9EF5-E3C55422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AF51A-7450-4261-868F-541D80A5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9BC60-AD5E-4880-AB0A-F2E7B2D0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1B9CA-095F-438B-9C33-4F2242D3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8A01B-4446-4026-9ADD-75EF60DC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65E59-BF53-4475-8929-98AD6935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F1257-2388-44A7-9B0E-225A303B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F9FE5-F854-4F7C-A9D7-EC9562F8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3A4A-A931-41DB-A95B-AFAF5385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E841A-CD44-4B6E-A843-27B09EAD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B3CF6-20C3-4D54-8DC1-36473DC1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1FB2C-7E8F-48B5-8B72-42CE4C45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59FDA-7A11-4BF2-8848-3E570A81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384CD-32C1-4C1B-89AE-1C4EDCC9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390C2-AD86-43AE-B5A3-13B85201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54FD7-F813-417D-8A16-736777E6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D0759-A133-486E-8C7F-8B78C21C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A1295-73AB-4A80-A5B8-F0867734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BCC82-440F-43DE-8471-2AB33BDC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3BCE-73B3-449D-8004-AFAD199A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680C0-895E-4125-B4AC-76F39DD9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2C4D2-94A2-4FE0-B8FA-1B0D508B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031F8-9E80-4AF0-A3D6-B9102F6F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572078-F06A-45E3-9FBE-23B93728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668C34-D84A-4543-A8BD-D1D2EA0F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8FBBC-00F6-4E19-94D2-A904D5CF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FA869-AD0D-4AF6-8E93-4D876F8C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95BF1-2EC0-4BA2-944D-B8AF2634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6A79F-4B56-4A8B-A6B7-90D7D206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C41703-7435-4A37-BA0F-F43CC5E2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6933-73FF-404B-8155-710AAAFC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0F48C-478E-491C-9035-6EFD423A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19A0C-4449-4E41-BB9F-B3ED61E2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F694B-28A1-4DCA-895F-45029BB7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B7E87-07A7-4EF5-9078-ABA77AF5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D63EB-F4AF-4AA5-8EFD-1B308584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C6B0A-0251-4097-9E59-374A93A7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C691A-DF7E-4AB4-8CA8-68E23E59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FBB2CF-86F4-4198-91B2-B522083B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0BBC4-80BB-42DE-B70B-F2F19E1D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F24ED-C085-4901-A3DE-5F37CBBD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B411-2B47-440D-946D-2A1100E5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FD024E-6DDD-4975-BA76-31AE6E11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20C55C-1E6E-457A-AA07-D95D893C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3137D0-C482-4AFD-8551-6D4C4C1E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A03AAE-5757-40AC-8E46-330ECFA8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03ADB-3AAE-479B-B78D-A4A89C81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9E65C-8374-4F69-B88F-6BF43FEE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AC4A9-E3EE-4F55-9DF3-6B33CBD8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950C2-C231-46D3-8B9C-581C60FF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9E8BA0-625F-4586-AEA2-0BCFB928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0E6659-B37C-4848-B312-EDC87E8E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E74D-545E-4418-B9CF-C1F5B310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957BC-DA0F-4BE0-9988-D9822FBE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55E2AF-9820-4591-9E90-419BE14A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ED001A-DA14-4114-BFA9-D7E94C08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B44EA-0ABB-458D-BE8D-03D02D20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95D550-A7C9-4786-B735-5F3C3D8B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286CE-08DD-4587-9691-35BB6FD7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4D1F3-1A3B-46BF-98B7-76F0BAEE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D1F402-3ED0-4112-A280-5E9E4ADF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1D721B-878E-4DC7-BE8D-DBB33B08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461764-6F75-4E7C-9C50-29B2D969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73B1-B969-4EE8-92E5-58AE9441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25C665-3095-48BA-815D-3C0BD789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16270-E167-4C50-B579-16F5527D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6D5DB4-E34E-4F3D-A406-F18105D8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5A0E1-6A8E-421B-BF66-75C5B824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AAB9DF-2518-4A77-A33F-5A5E0181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AF4EAB-D0A3-4CDF-8AEF-5E6235B2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A32433-3134-489E-A1D6-DEC2D2AB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04F474-3995-468B-A9B0-6C644699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BEB40E-1D63-42C0-A827-0DE6C874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3CDB1F-5C64-452F-8EEC-76A97B4A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557-0816-432E-A5EE-D6DF671F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019F-7ADB-48A3-8FA6-CE12F4D2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F81C94-30AD-4394-87BC-09079AD4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485D3-C128-4183-B1BA-BB090689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DAD92D-0DC7-436E-94B0-B1C8F9EA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B00B9-7CE1-419F-B3C9-65C81E2E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CC5CBE-ED1C-4D2E-BE5F-6B607C6C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FDA951-4751-4EF8-8EB1-838C5A2A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533ED-6E96-4DB4-BB26-5F019719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8A4CB-2E24-4026-BA30-8E487910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DC1B51-7BE3-4FDA-A528-B8EF3495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10181-06E9-4BA9-B8BA-8BC88CBC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DA07-D2FA-47C8-A347-D7D30AD1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C77919-3315-4EF7-B4BE-F03BB540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52B332-1CD0-48FD-BF2E-6DA3831D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222427-ED07-40A6-9F6C-74250440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BF5001-6D36-46BC-963D-3A930447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11BCCE-6536-4BFC-8907-527C023B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B7A1DA-4C82-439B-AD3D-9DDF6AEA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9ED8BF-52A9-4313-BEE3-A918216E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114E8F-2781-4955-804F-D5FF1034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6BC084-D253-4AD1-ABF0-D3659C9C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7DA145-BB28-4121-84D6-FD128812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4D19-32E0-4545-AA76-4238F160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CF5D47-1B1E-4B5B-807C-2EB76E7E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CAE724-266B-42DB-9644-3E4B76CE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88597C-FECC-4E31-9050-CB549222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0B0259-B90E-424B-9491-BD151651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8456F6-51B8-4103-88B5-B822ED37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0E1B6D-FC19-4261-AE25-0E5BFEA1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FFE6CB-31F1-4A18-980B-7C5CCC5F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BF4FBD-3697-45C1-9FB7-5E7ACA6B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6E8F0C-0042-4520-865F-DBDCB351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B68E70-F9B5-4DB8-BD86-59E3A976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4D0E-8789-4458-B785-F03F5CCB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056394-3D88-4DBE-9D3A-4AB90C6A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D97B04-BAA7-431E-8913-F36C392D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36764A-8C54-47F9-8EC9-B699FEBB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84BB76-86D2-4746-A59F-07372E82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8F7B2-66F8-4031-B841-763A0AA9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DE9A7D-DC27-4886-B947-01E6F771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8A73A7-B385-4FC3-8AA0-0848B827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BBB7CC-95D5-42CD-BF81-157ACBC9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3571F7-A5B7-4FD8-A25D-07C74E54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B923A1-F324-4701-BDC8-9581B1B9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ADAA-2265-4D59-A264-8C911545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36FDC-61F6-4477-8AB4-065A7965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0E15A6-7898-4C48-A793-56A36542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8F6F94-029F-46DF-969E-A9E85364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48D3B7-94F2-4792-A48C-A655201E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BA6104-565F-44A5-9CB6-04B478EF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4082D9-8685-423C-B924-9AD2F901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717FA1-718E-4F73-BF1D-336D04CD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82281F-86A2-4FD0-AC20-27825F6A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CD88E9-6719-49A4-9F95-2B775DF6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39C5EF-0714-4491-9CC1-09A4AAE1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F18A4-1525-40AA-A328-881C85A8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421263-0044-4E2E-95E3-358DE6BC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C61522-D267-4EF8-8164-C322DF91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D8ECA3-88F4-42AC-95F4-750F09DC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BC6EDA-E6C8-487C-8ACA-62031209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FD042D-D93F-4AB2-8439-0460414B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624EA3-CC08-4E38-9759-D22B44EA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03F6FF-D77C-4D5F-A951-EF1A7440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B0C3C3-5DFE-4AE2-B991-4331A966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8E0241-B4AD-4BDD-9F58-C79016A0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3E6042-FD27-4C62-81D6-88D7AA61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8274E-FD31-4124-B193-A5D57EA0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31630C-A622-4C8E-B440-0A355013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5AAE93-0CBD-4FEE-8055-B4BD1B3E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E08CC8-17AE-4991-A65D-02B1697F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1E00F0-5FA1-4020-AAE9-B1452189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8C950E-EB76-418F-913E-B128AAD7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3A41F1-1E81-4E6A-9423-8E465EA8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5E7259-4A64-4CEE-9E25-B0E00AD2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249C69-E6A8-4BF4-9E21-7FD1C0E0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2FE0FB-1C1F-43E8-8499-0A9B26C7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D4A99D-52AD-4E07-9ECB-92D3C5D2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F7D66-4C49-48DF-9D78-B8330D18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A5E8EE-1AC6-4635-B775-B16706A7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5CF28D-34E8-487E-854E-DCC7BF52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2D40A5-2A6B-436D-A6BF-DCDA50C6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316831-C696-455B-BB2F-0A14F1D6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588EAF-32E5-48D6-9C85-9F0FA8CA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DF8DC2-FBA9-4647-AC49-E45BAD95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C13BD6-8FF4-45A6-8187-08EC8983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64F5D0-DB6B-4334-9EC5-6475D030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D97B87-6719-4067-A174-6CEA3E00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266F1B-C019-47A4-B503-4DEB8F6A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D49C-2323-41B9-9D50-97A90810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551979-6DE6-4055-96A9-9A56AF28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F132BB-F390-48C7-A307-D4E999A6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BC7DBF-3100-4A64-8A64-BADFC894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ED216D-FACE-4637-A71B-A46BB712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FA1A6E-5B94-4E14-B854-29668A36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6EEEA6-C353-4FD9-B124-815D7AF3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A3F5A2-BD8D-4964-A693-E6A96D5A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C53D58-60D1-4B9D-9528-6FF9EDB5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A1C1CC-F67D-4326-8134-83E1429A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1F4C64-2A5D-4DD0-A564-267DD40E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494A-2973-45BE-B225-E0608A86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3CCE45-13DC-4946-8F42-C80CDDCD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E4AF61-2303-40F6-B1D6-996DBF1C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DE136F-7FDC-49B6-A35C-B9CA27E9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C0B1CA-A59D-4A29-A6F1-2CEEDDE1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95DAD4-B074-4D07-9A73-FC2202C5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C02265-01DE-4D57-BCA6-52034586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22EA8A-AF40-4BFF-B579-26B4872C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0CEB00-EB54-44B2-9B92-8BF4C623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734681-A6F6-41D6-9659-EE4C7A81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AFD76A-F6D9-4423-A565-99ADB900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28D-4116-4388-A6F4-C0816365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C1A46-8D58-47F6-A157-E1A388C4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EF047A-7611-4AC3-A9EF-E9691768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9093BE-9F6E-4E77-A067-33F1E704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ECF1A2-F51F-4DEA-B507-FBFC8850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0A4338-24EC-4899-B7FA-A1FC1565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167E7A-7F60-4675-8DF1-DC828BF0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CC3FAA-22FC-45FA-A70E-92AED396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9A4CEF-835F-403B-BE75-CAE00A5D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A6C6D9-B1E7-420D-9B40-C435668F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2FDB8B-E630-40C4-9739-E459BE4D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F24E3A-864A-4CF8-B655-19E6C44A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C41F5-15CF-4601-9680-66425347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81AC33-20C5-44FC-A471-DD10F75E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20D0A7-6FCA-4102-B358-58BE8B67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F495DC-2273-4549-9EBC-BDAE28BD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F63542-3D94-4F2F-AF81-512E8B90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A4E83B-5C30-42EB-A233-82AC51A9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A41187-FA34-415D-96C7-C374F208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A03E60-9395-4A53-B2C0-62A2FD7E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4A024E-1744-41BB-8510-AC25D37E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B250E3-2B34-4605-B5B8-C0DC1E58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6E4D44-DF8F-473E-8CC6-460885ED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B09FC-3BB5-4522-AA28-A6C80DA5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AE11E6-5487-4D33-A38C-9B60CD6E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597638-6384-45C9-8FEE-0DBFA586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0ECBB8-5216-44B5-9E9E-471A2646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0B111F-74B3-423D-A9C2-733F783F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707D05-FCDE-46B8-9580-A53C13AF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A50DDA-3CAF-4DB1-9863-BD60EDBC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1C9E5D-4C8B-4977-B09F-DB217F7C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ECA66B-6A3F-4849-9323-916C339A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ABCDC8-83FE-40F6-83C1-4195994A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280A5D-1D6A-4E56-86AB-4508E336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6CCF-7BCE-4C33-94D8-56A651E8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EA694A-EBCB-4986-8EAE-9AE6B66D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45C8F6-12C3-443A-A152-102C8275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C7ABEA-BE8D-44AE-9840-962DC6E6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31AAF9-10C3-403F-A56B-54D7D9E8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07624A-E26B-48F5-A4D7-528F8A44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423597-6727-4432-91F3-D7219CA0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568D6A-BF02-4AFE-B883-48075785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51FB76-5C69-4EE4-B79E-2BC0D4BA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80C247-18EF-496B-BA9D-73D54F6B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1F2138-5874-48C4-BEF0-C62A9B76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5F8DB-5318-4C4F-B1E8-46B8FA13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6D5E24-B8FD-43BB-B00E-1C5BFAE6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66DE8B-A7CE-49D5-8B88-6185BC81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FFB3F4-EBC3-46D7-8912-EEFF24E5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83E766-93F1-4961-81B2-EF110BBB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C86A9C-E8FA-439B-8161-8FE9FA2C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E4582A-7D8F-4C8A-B536-CA2C7956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949D88-B3C9-42F5-A7FC-C58A363A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6890C3-0716-410A-BF2B-B98CF987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2C29E0-8245-4E9E-874D-54E761C0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674E3B-443F-4781-8A26-5C81D8CA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B704-A830-4C2C-B53D-AD67C0A5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41BB8A-E53A-4549-ADA0-3507E97A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41D849-EAAE-4F09-B5F5-74C058D6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52A2CA-B891-49FE-B9E9-A5469C23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993BD3-C98D-4546-B935-A64E1DDD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62610C-21EB-4E5F-88B3-7894C639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40FA75-B5B8-41C2-AF49-54DC8702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B88340-1E24-4D44-BCB9-415F51BF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B848EE-F256-4B48-8921-2C938798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C7F6CF-7CB4-480B-9E26-1B50556A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BC8E08-2F11-43FD-8385-4BA7FD12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55DF-322F-4EF4-82E0-6FE9BE66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9521CC-C507-4217-9BBF-6F193734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AA5FAE-BEE7-43C9-B23D-2C9BC885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5EC21D-F09F-4AE0-A51C-DFCEFEB1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A5B68B-F519-4BD1-B130-38B8614B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B18326-C0CC-465D-A70E-CD721DEB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336C40-D76B-4FAE-BFD1-5F7C790E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892FE3-C6ED-446F-ADF5-05331724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874278-7277-419C-AA18-4A889FD5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4FD451-24BD-4EF4-948D-9C49F921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80DBCF-CDDE-4756-8715-979E00F7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41371-D289-4625-BCFC-FD3A139F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880F9C-0BA6-43B5-B94A-2375AFD4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A4BE91-6698-483E-B25B-3DFEEDCB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41A3C2-01A9-4C23-AE20-44E4D4F9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B7C1D-BF6F-4F8E-86BE-11AF2E99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0F748-BE0A-4FC1-B445-A57E1963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15B-EA1D-4887-A124-2182C28B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2AB13-BA2E-42CB-A54B-E8E5DE4E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F983B-D6B4-4819-9A8C-3FC37688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96ABB-52AC-4AD3-B5F2-B2A9AE50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83000-209E-4418-9A01-3DC5C1B8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4540A-BC5D-4D7A-BFB6-42E97DFF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53F73-04D3-43A0-A0EC-3B5ED6EB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8B17A-E90D-4C02-9837-6C4733B9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A664-72E2-49B1-965B-C798FBF2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4A479-5CCD-4CB0-8894-677EB10D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B3CF1-26AD-453A-8BF1-8F5DE55E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36D-9028-44B8-A9EC-DB811578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2A0A4-ACAF-4832-906C-1345CE80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B0CA7-39FA-4BA4-A7A5-F950279B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07F06-2C28-4C5D-9D17-CEF988DB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2A8E1-580B-4277-AC45-B7F188F2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6B9F2-6690-441C-94EF-372708AD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E4472-E7BE-4C04-96FA-D7EADD55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29B70-C547-4861-9F97-98585D9D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B2E71-1966-4C5F-B3BF-992B82BC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712DF-1ABC-4E1D-9855-699E35B9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D3519-1DCF-49CE-840E-6B6F54D4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BA6-E16E-498D-B0E3-F9F50C59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B2626-1F73-4A0F-8FA7-9E1A08B8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A6D06-4370-477D-83DB-B774B47F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70EC2-4636-4C27-B320-0ADE56D0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471B6-EBBD-44B0-B137-2CB9AD3A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CCE7A-C89F-4817-90A3-148C1F8C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62871-7EB9-4BAB-BB03-643D98E7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EE2BA-1440-4030-82E7-CCF329BB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1D4CE-C152-4949-AF8C-3F58B8AA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38952-0C2E-480D-92DD-C179BD1A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EC2FD-652C-47BE-B2A3-90D2E076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545-5269-4F14-A23A-33F69E4F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A3D2D-7C42-43A4-A2E5-63AA6651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A97B5-50AE-4836-962C-C546EDE7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65E27-F8AD-4A79-9AF6-E637F976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36FE9-D5BE-46C3-BB66-5A1C6F1C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2C82F-552B-46AE-AD83-BC09B287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B7E19-6F9E-46A4-9E98-6C44210C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A8D53-C14C-4716-A01D-AF2C352A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AE40A-4FE8-420E-A2C0-9C8FB26D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74171-211B-4DBA-A7C7-77FF672C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DC2D8-D2EF-4706-A4E2-543BE709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E4F-4CF7-4697-86EF-3D2EF11D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8FBAE-1891-41F8-8A30-D580C16F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10833-4255-4FC8-BE05-89D7EF1F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7F07E-63EB-4871-B838-AC75D7A5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9D1F3-BC7E-4D25-9147-3D3BB67E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3ADF0-8FED-45CF-8844-AAA1DEA6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11C19-8608-403B-BAF8-25912F5D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86A56-1A90-45E3-BDB7-4D7FAE20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E75D1-6EED-482C-9D8C-D3E52F2E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E0026-5E9F-4E39-B1F3-FF673228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92F5C-E861-429A-9F28-EB0E31F5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EBC3-A988-40DE-B2BA-BB71AEB3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8DEFD-E220-4BA0-BF69-C6DA9A9B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733B3-281E-45A0-B3BF-D887F389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688F8-310B-487E-B633-7DED238C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F3B4D-DB86-4B0E-949A-A3BE4568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5A467-9AC8-4E0D-BD08-818FC5DA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54C86-9FF1-41D2-9FE3-AFD03328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34B74-1439-4E19-85BD-25019D9B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098CA-1548-4165-A518-B4AF5043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38FB6-E853-49BF-A82C-8FD83F9C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6ACDA-EE59-4F1B-B7FD-1915D7E0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ECAE-AD87-4ABE-9CF9-31FC58A395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E5AE-0ED8-4447-9507-A2B67EC1A8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4796-1BB4-49EF-831D-27BEF367F7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0881-6D17-472A-9718-5F86D51B18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7B44-C1BC-4906-A28F-6A7514EAC5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8ED3-777A-4276-AB36-FD4D3A6DD0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8AF0-236D-4877-B069-9BF09A060E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34ED-B676-4A0D-B7F9-DCCE3551C0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10F0-27B2-4B23-886E-67E7A2867C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531B-542E-4E77-8C81-ABEEDA5697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9DAE-D9E6-4999-B02C-46697B570B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9D04-F8E2-4DAD-8867-A611FFA106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7AD2-8D5C-4D94-8960-C42C98D91E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3380-66D8-40E4-A4BB-AF1BF4FB55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0650-D4A4-42B4-A88F-6685A5415C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1DBC-EAE9-479C-B9A8-40E0EFF0E2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0568-6118-47CF-8A8A-B35AC9677C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BEDA-299B-48E0-AEFE-A570EF8BD5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D216-F610-4BBD-B070-0BFF5F43C6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E711-BE24-4A5A-918E-9E5AD7FCCD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E8FE-F531-4AEE-8643-B70099CD96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735A-2C4C-4148-803F-0184137889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4693-2E98-4064-875E-A8B1CB55E8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BCC9-AF1C-41C6-BE34-4C15E0299B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5FBF-F5FF-4703-BD10-28C0734079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B8E1-DB94-49CE-9F45-DBC6EB28A7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6B31-5940-425F-88FB-7BC6135906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3AFA-F5DE-4022-B4FA-6B6718DD01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DDC7-641C-4006-AC94-3C15AF1DF3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EADA-5842-4720-B742-7321C27636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EB7C-6567-4D75-BC99-9E0865D36B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3CA9-CA6F-4B7E-B159-62473439AA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B9AF-9A3B-428F-BE34-8A61285F27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1ACD-70D4-4147-B3BB-8459CC2BB8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1982-8E76-4C42-826D-F35941C083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3A5C-64DF-4E63-88F1-087A4AEEAE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F086-FD94-4313-8739-28ECE2B0C5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D396-56F8-41FC-B86D-3AF1079E98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A2AA-A66A-4BB9-9B60-00EB839585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872E-B554-4BA1-A435-07DBBA352C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36E4-ED29-4995-9EAB-0E6738AF3D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834B-2779-4319-B912-A1E387987C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7EFA-6504-45AF-8DE3-C6E1866779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E744-01E5-4C8A-9B47-2AA19E65ED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36AB-8A54-4F56-8F1B-87124FE7D5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88AB-C90A-4E00-B605-FA0721180E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7DC4-B352-4A51-9BC3-92959968C6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B744-A7D7-4D20-A186-5A47692C7C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3CDA-99D6-413C-B04E-EECC5D20A2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49A4-3D81-4785-B231-E3AEE998BF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238720" cy="102888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2916360" y="2565360"/>
            <a:ext cx="2990880" cy="86688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1403280" y="3573360"/>
            <a:ext cx="63626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16737" descr=""/>
          <p:cNvPicPr/>
          <p:nvPr/>
        </p:nvPicPr>
        <p:blipFill>
          <a:blip r:embed="rId1"/>
          <a:stretch/>
        </p:blipFill>
        <p:spPr>
          <a:xfrm>
            <a:off x="433440" y="1071720"/>
            <a:ext cx="8277120" cy="471456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16738"/>
          <p:cNvSpPr/>
          <p:nvPr/>
        </p:nvSpPr>
        <p:spPr>
          <a:xfrm>
            <a:off x="7812000" y="1844640"/>
            <a:ext cx="47808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5713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58040" cy="478152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5714"/>
          <p:cNvSpPr/>
          <p:nvPr/>
        </p:nvSpPr>
        <p:spPr>
          <a:xfrm>
            <a:off x="2244600" y="3903840"/>
            <a:ext cx="36226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15715"/>
          <p:cNvSpPr/>
          <p:nvPr/>
        </p:nvSpPr>
        <p:spPr>
          <a:xfrm>
            <a:off x="1393920" y="4551480"/>
            <a:ext cx="94608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15716"/>
          <p:cNvSpPr/>
          <p:nvPr/>
        </p:nvSpPr>
        <p:spPr>
          <a:xfrm>
            <a:off x="3032280" y="5097600"/>
            <a:ext cx="161100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4689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58040" cy="494352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4690"/>
          <p:cNvSpPr/>
          <p:nvPr/>
        </p:nvSpPr>
        <p:spPr>
          <a:xfrm>
            <a:off x="4226040" y="1173240"/>
            <a:ext cx="47772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4691"/>
          <p:cNvSpPr/>
          <p:nvPr/>
        </p:nvSpPr>
        <p:spPr>
          <a:xfrm>
            <a:off x="4302000" y="3306600"/>
            <a:ext cx="415764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4692"/>
          <p:cNvSpPr/>
          <p:nvPr/>
        </p:nvSpPr>
        <p:spPr>
          <a:xfrm>
            <a:off x="1495440" y="3979800"/>
            <a:ext cx="9158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4693"/>
          <p:cNvSpPr/>
          <p:nvPr/>
        </p:nvSpPr>
        <p:spPr>
          <a:xfrm>
            <a:off x="2124000" y="5013360"/>
            <a:ext cx="1656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2011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12390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42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2881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172360" cy="397188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2882"/>
          <p:cNvSpPr/>
          <p:nvPr/>
        </p:nvSpPr>
        <p:spPr>
          <a:xfrm>
            <a:off x="6084720" y="1413000"/>
            <a:ext cx="243684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2883"/>
          <p:cNvSpPr/>
          <p:nvPr/>
        </p:nvSpPr>
        <p:spPr>
          <a:xfrm>
            <a:off x="1322280" y="2060640"/>
            <a:ext cx="123372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2884"/>
          <p:cNvSpPr/>
          <p:nvPr/>
        </p:nvSpPr>
        <p:spPr>
          <a:xfrm>
            <a:off x="3951360" y="3114720"/>
            <a:ext cx="242100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2885"/>
          <p:cNvSpPr/>
          <p:nvPr/>
        </p:nvSpPr>
        <p:spPr>
          <a:xfrm>
            <a:off x="5627520" y="3660840"/>
            <a:ext cx="2421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2886"/>
          <p:cNvSpPr/>
          <p:nvPr/>
        </p:nvSpPr>
        <p:spPr>
          <a:xfrm>
            <a:off x="2109960" y="4689360"/>
            <a:ext cx="22460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121857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29600" cy="4772160"/>
          </a:xfrm>
          <a:prstGeom prst="rect">
            <a:avLst/>
          </a:prstGeom>
          <a:ln w="0">
            <a:noFill/>
          </a:ln>
        </p:spPr>
      </p:pic>
      <p:sp>
        <p:nvSpPr>
          <p:cNvPr id="1444" name="矩形 121858"/>
          <p:cNvSpPr/>
          <p:nvPr/>
        </p:nvSpPr>
        <p:spPr>
          <a:xfrm>
            <a:off x="7667640" y="3357720"/>
            <a:ext cx="47772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0833" descr=""/>
          <p:cNvPicPr/>
          <p:nvPr/>
        </p:nvPicPr>
        <p:blipFill>
          <a:blip r:embed="rId1"/>
          <a:stretch/>
        </p:blipFill>
        <p:spPr>
          <a:xfrm>
            <a:off x="490680" y="1819440"/>
            <a:ext cx="8162640" cy="321912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0834"/>
          <p:cNvSpPr/>
          <p:nvPr/>
        </p:nvSpPr>
        <p:spPr>
          <a:xfrm>
            <a:off x="7956720" y="2349360"/>
            <a:ext cx="4777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19809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248680" cy="2743200"/>
          </a:xfrm>
          <a:prstGeom prst="rect">
            <a:avLst/>
          </a:prstGeom>
          <a:ln w="0">
            <a:noFill/>
          </a:ln>
        </p:spPr>
      </p:pic>
      <p:pic>
        <p:nvPicPr>
          <p:cNvPr id="1448" name="图片 119810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7934400" cy="152388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19811"/>
          <p:cNvSpPr/>
          <p:nvPr/>
        </p:nvSpPr>
        <p:spPr>
          <a:xfrm>
            <a:off x="7667640" y="2708280"/>
            <a:ext cx="4777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18785" descr=""/>
          <p:cNvPicPr/>
          <p:nvPr/>
        </p:nvPicPr>
        <p:blipFill>
          <a:blip r:embed="rId1"/>
          <a:stretch/>
        </p:blipFill>
        <p:spPr>
          <a:xfrm>
            <a:off x="533520" y="2481120"/>
            <a:ext cx="807696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17761" descr=""/>
          <p:cNvPicPr/>
          <p:nvPr/>
        </p:nvPicPr>
        <p:blipFill>
          <a:blip r:embed="rId1"/>
          <a:stretch/>
        </p:blipFill>
        <p:spPr>
          <a:xfrm>
            <a:off x="414360" y="1057320"/>
            <a:ext cx="8315280" cy="474336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17762"/>
          <p:cNvSpPr/>
          <p:nvPr/>
        </p:nvSpPr>
        <p:spPr>
          <a:xfrm>
            <a:off x="7812000" y="2781360"/>
            <a:ext cx="47808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0:34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